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D909-725C-4ECE-B2DE-8ACE4DC97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49D9-7912-4DFC-BCED-1FE1D789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50C06C-23EB-425A-8511-D3A59B22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9C14B4-8756-4C7D-87CA-D7FB3E0F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8DCACF-8B37-4F01-AC70-FD1A2BB6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3B2463-F18C-4669-B0F7-F7B88D07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8B3264-864B-4CB7-8C08-466C94AB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B463FF-CFF7-4888-9DD4-7FBD9AE7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6560C5-4BDA-4905-8BEE-DE16C003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F48C93-89CA-4D09-9131-2595A0B3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B63F82-0C8D-4138-A127-F34CB599B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BF087-EA5D-4EB5-992F-1A6F5970F0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6E82-0420-4F72-A9F4-B71831C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A510A-C744-4A48-A932-AC7BE423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2B68F-E403-462D-BB47-B293C668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B0207-7592-48B6-944B-5D968B35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2CD00-B45C-49C6-A874-ACCCB33A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9EDB-5772-439C-B9E5-E6C083B6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C4BA9-DC5E-43B7-B40C-8CA3F751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AE223-68FB-4D79-B10D-679B87BB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BB02-80BA-446C-9043-CDD85536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EC6F-83BB-4009-B625-346D2FC1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3179A-A5BD-4506-B515-438AB8A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8902-63AC-4F45-8B19-AAED7393A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D361E-CFA3-4079-A1AC-E172882E3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7E229E-66C2-47E7-95BA-9961FCFB3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4C4517-5181-431A-9E1C-E1AC8E9D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BB62B-D903-41A2-B1B4-4AD58F01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3F236A-C404-4081-9B1B-A8D00D0A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EBDA2-D8FB-4260-AAFC-B6FCD78F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BA5C30-ACC4-4C27-9405-DDBB6761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D94857-D98B-4D4A-A7AD-8CC43A27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554FD4-520E-4D6D-87A4-0E9B6404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DC861C-2BFF-47E5-9264-5ACF3FD7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294A0-182C-4B11-9DF4-3930A841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55AAEE-06FC-4D9C-9109-E780D5B7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799FC4-9B75-4EE3-839B-2852A4A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2D124-8FEF-43BA-BD27-F9EEC70172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BFCBE-6466-46E8-AD5F-80A1DAC88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5ED95-E31E-4903-8669-BB798B58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4BFEE-EA59-4E58-9CB7-F726FF05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1DB52-5E76-42AD-91EE-249E209E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4DAE0-B197-46DB-8B1F-4FE28BA3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575C2-D3A1-4889-8FB7-51CF409E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01557-8F7A-4A7A-8B06-5ECDBA0A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6DEB8-044E-4484-BC61-CF4638A0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14CEB-4D8C-487A-84C1-A01746E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88D94-DDB4-42D8-92DC-47EDD04B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17AD0-D176-44B4-BB6E-23A75981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5A289-7AD1-4029-A2F8-168387B1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A7B90-7E4F-412F-BF4A-AE874AB203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26584-5DF0-4065-B77C-9B20B648D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59756-48FE-4E77-9E6A-C474C4C1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7C3B0-959B-4710-B528-3A2C24B1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EAE66-BFA9-4EF4-BBEE-07630EF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07508-96C8-48B2-900E-8E685000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D818E-D23A-4171-B6EF-1AA5239A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E73B6-21FB-40B0-AD68-8ACB535E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098A9-BE6A-4034-B50D-30B19FC4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33658-B3D5-45F5-A4D9-395C895B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B8E44-154C-4FF3-B490-04BDB119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5B781-230E-41CA-A3F4-431DB1F8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038BE-A42E-4721-8802-49803EBD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42FC1-14B3-49A4-9B9A-EBE7479F1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BA4AC-13AC-4017-A924-697D3E72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6B0C7-8A73-4796-A7D1-8DC3350C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BF4BF-029E-4B46-BDE7-CBFCD020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7FD35-D02E-4BDD-A158-99389EE0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EB74D-B6FE-49F8-965A-4ED42747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F16DA-E5F2-4691-BB07-FE395B21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AC9A1-9151-458D-8B78-4D58051A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E9889-7373-470D-9A86-535B5519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C1C84-E65F-429D-BBA5-01DC81C7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5318D-BC72-4E9A-BEC7-6589EB07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E315A-7805-4D2A-AC28-7219C7AD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25EC2-897B-459D-86F1-A462416E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F19C4-32FB-4D20-A166-87AED068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6485C-BB13-4881-935A-78FCFF87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D8355-D275-496F-8481-62F04358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FD43A-8060-46C3-A2B5-BB599D6D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F548C-20A0-41E0-9D0C-69EA92A6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DF536-D47B-41C5-A82C-60670771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07F87-DD3A-4170-8B89-47126EB5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5C1B8-AC11-445E-BAEE-4DC6A65F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F1734-3150-4B24-AD2E-DF44C0C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7BF3-C867-49E7-AA0D-917D518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B91CF-C7FE-436A-9DD3-0C354587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C55BA-04F6-4084-8DD5-C36DE691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8B218-E62C-44FD-8366-824A2BF7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1B166-1730-48E2-8C02-3EE1B5BF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E5EDF-728C-4942-9E99-CAD4C908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DA4EC-4665-430F-8C05-6FC4A59D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1CBF4-BC68-41B9-9AA9-A08B7F84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34E38-9A12-406D-83FD-C333E5DE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48A51-1465-45C5-9A8B-BDA45B0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6F5F0-2EBC-4448-BD8F-C2322916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1BB10-1AD2-4438-BC07-BC7A389A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4DF4D-4768-49FB-93F7-323B2C0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3FBCC-E373-44B7-8118-6A8116F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0D03C-443E-4790-9E59-A6117D18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96AA4-FF6F-458E-A618-DDDA926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32E70-3837-45F3-9A1D-9575216A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137E4-C360-4C41-8598-1E6C9AC7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24D6F-506A-4582-8712-95625AA0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73D96-70D9-46A6-B27B-FD8911FF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A8876-204E-475C-A154-317C3D84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1A48E-095A-452A-887E-5DA7FBB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19575-64F9-4395-9571-1012AE7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4908A-B8FE-471E-9E2F-0A4D5AA6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F834B-1342-4968-9DB8-E6298C31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0AFE1-FAFE-4F52-937F-CE9DE44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DE23-FE8B-4CC7-9699-527C18A0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5AF73-DB41-48A7-A1D2-F3F5F95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4BF71-4561-4D93-AB7E-FB14D3A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80C5F-ED8C-465C-BB80-A9631E8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57213-9B6C-4721-807E-94655F90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9AF43-FADC-4836-AB6A-68DADF55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B67A5-587C-4E5A-8AB5-4BBED953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59B7F-EA77-46ED-AE57-737B7FED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9973C-1DD6-4A4F-81FC-E93B2BEB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0EEFA-7225-4FC6-908E-B25DE57F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12713-85CA-4ED5-994A-7D6FE0B9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820C0-7E25-4EB6-AEA6-99686AEE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8C555-C178-4BE5-9719-87220A7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E6561-3E55-4C66-A6BB-2193DE23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C0E1E-53AB-4C9C-8574-DE780C7B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1F3A9-A73A-431A-ABA2-2E780FAA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05AC5-095A-4E60-94BE-8A62EE4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692F8-D9E6-4936-B1A8-8B0FC6FD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3189E-51D2-4FC4-B84C-9C984E49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8EF4D-3696-40A7-B5C2-F839AB59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5037C-3D5C-44A3-A6C8-BBAD9076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2BEA4-1DC0-4B3A-8FB1-1BAC96E9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5ADBA2-478D-49B9-A27C-EBCA4A4E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5A990-5EE3-42B3-BAAC-81398782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87B97-AD7F-4B36-A227-E3540128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12100-E0AE-482D-B9B1-95758AC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37270-B77D-405E-B306-B54C6FCF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8FF99-900A-4255-AF7B-3CA208D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9BFDE-BA28-4BFB-A0D7-196D9F5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06326-4FB2-42D7-8290-4C40BA1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17CB8-A04E-4817-BBE7-4B5100BF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00D22-AF29-4F5B-84ED-8613AE9B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D4784-6EC1-4562-9D88-8EE5CC43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5F812-44AA-43A4-8311-62644CE5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ACD9A-E4FA-4B46-B715-B61EA30D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79DD5-D78F-4424-87DC-073F9DD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FF7BF-6ED8-4346-B2C2-6D0A9458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3416A-255A-45E5-933F-8F7C31B5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7FC11-7C61-45DD-846F-57FC620B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B58FC-4E30-4A3D-9391-1813215F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79CED-8C43-4AA6-877E-B3B9235E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7F17E-5890-48E1-8AB9-D6071816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89A38-EC64-42AE-AD48-B6756F4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2E1393-E4AE-462B-B124-2017980A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82DAC-B9FC-4204-B39E-C70FBF9E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4F4BB-6428-4329-B3F4-4B2D6397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208FE-0872-46DC-8025-79397412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7BD10-6811-42C2-B559-99AB47C7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CDA7B-7DDA-42F3-AFDC-D19CC80B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D6A6D-E06A-4C5E-8A93-B0D14EE4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A625F-2816-47FA-9802-41C6291A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F4347-518E-4574-B756-4E084BBB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6D7D6-C62D-4B65-A387-2EDCF4F0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C0E5F-43B8-4F47-9683-99E1185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62A09-BFE8-40FB-9558-D9CB108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2563B-6801-4405-9AC4-BDD5E99B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8BC30-56EB-4806-9DF5-3EE3B5A17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04ED6-C858-437C-87B1-257AF139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7CEB2-9BD4-4962-8A89-42F5647E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D9519-1D5B-4795-8721-F9BABB22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DBE63-A9EF-4ECE-BD18-254F2AD8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87B3D9-2D63-4F89-9757-74FB2C82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4EFA4-74C6-42B0-B8FD-8BC0DF21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E342C-6235-40F6-A952-613E322C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2B929-DA1E-4627-AEE3-3DBE3D36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821AE-4B77-4D60-B161-A9CC5968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64578-8AFF-44FB-8A8D-96B1836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643B1-5230-42D3-92D0-1BEDFD4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AA122-A61C-4D1A-B185-1F6C2ECB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66803-F20E-4A4F-BCD2-F9E36E03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051D0-6203-4AA7-9760-5E4C5CD9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4323B-5604-498A-9699-16E5C4C6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E4B81F-11B7-40B4-9139-8CD9DF5A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3DA8B-ED8F-4D46-9E5D-49AB7719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24C7E-F710-434D-BBA2-4C4112B4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AFF787-80BB-46C8-B3E3-ECCA40C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BDDDA-D9BA-4AFA-936B-065832EA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ADCC58-2E6C-4756-9C67-24591166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466A4A-1FCC-4D5D-A252-6B88FD2A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8AA33D-823D-4692-81A3-C3AEFDBE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D0C0C-6D2F-4592-8DA5-9F6308E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CBE119-9744-46D9-A598-39AC3987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A7264-CBCA-4D07-B715-9E65311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668FA-A69B-4A7B-9DB3-51C3136D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163CC-C49A-45F8-97BD-6783DABA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9F9D7-A8D2-4854-9C04-7FBA1FAC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1FCBC-6F40-46A8-91DC-453E6341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1A184-D953-41A5-B193-AAB43E3E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EF6F31-EE68-4931-993F-587BEE75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A1C3E1-E592-40A9-8B86-33E84169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0E8C2-68F6-4D48-A3E8-F5B18B83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AD2B1-87F6-4115-A251-268E02B5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11D4D5-A2F7-4FC5-8E48-4AF2CF97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C2673-8B08-497D-9D48-53C45DF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A2F25-F163-475E-AC64-25B3C24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BD498-B155-4883-BBE5-DDEB1531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D8A03-1D73-41D4-A903-77DEE415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F6F22-96E2-40D1-917F-6BE810D9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D4E63E-2A07-4783-828A-13340FEF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CBD185-44CB-4374-AA9F-C3347044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35B1-9147-400F-9F0A-7686C0A4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4918B-A973-4007-9952-5659032F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662AA-D01F-4A41-97AE-688BAA04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42B19-16C7-45E4-8ED5-76DBDC1A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270A8-B6A1-4157-B916-DC650D64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51309-359D-4A6D-BA90-A722A6CE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5A659D-6ECB-40FD-8137-E43A5172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49AE4-37E9-44DF-90A4-5383935BAA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F522-9BF3-4573-A336-47245812F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93A4-7A00-404E-8E25-AFA021B0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D588-E5E3-4E47-B7B2-0821F45A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5894-AB9F-41AA-B136-5583F9D0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E91A-F34E-4C0A-A3CD-688713DC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1355-90E8-4A13-AFAC-373A8F3A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2707-44B3-4EF3-AC35-3AB6A744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09E3-1740-4E4B-971B-F825FC21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AA33-C71F-4D30-9041-9A056B02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C77A-898B-4C91-AEDB-ABAF9AD4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0157-026E-47AD-9792-021A5374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8D77-31CA-4416-97D0-59A7A17D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4CEB-4F00-4BAD-8757-50F5CFEF9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6F6DE-E53B-4A83-9E7B-56BC426161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9185-077B-42EE-9A59-C37FC4C2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05EA0-0448-48E2-9A6E-5EB22B26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AC9C6-1BC6-4C98-9E69-99B61ED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23D86-503C-493E-A26A-2CA62014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98546-4B02-4BC5-8896-9504CCAC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3C358-3E94-4E81-843E-F6D989F0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BD473-B67C-432E-B777-FAE9B0F1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EBA79-DE35-4361-806F-7AD85485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15557-8836-471F-BCF9-1F7D53A4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A12CC-7BE1-41AE-B672-360078B9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C08C4-AEE6-419B-A732-F64C15B5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587D-AF5E-4D76-9A26-B228317E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477FC-D17F-4298-81DD-AB906C990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7C4EDA-919C-4C3C-BD35-48D269102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1F8A8-E123-4558-9C82-48294DD3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E7DED7-A2EB-401A-B785-92EC2FA0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86E435-B4CF-433C-8152-47462E54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13115-93C2-4077-BCBA-121FC2B0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F05DFD-8737-471F-91BD-E99613EE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51CBA7-C7B9-4493-A761-EE92C51C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A697B-3341-48E6-8972-AD2A8471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0BE3D8-7B8F-4676-BA70-4D2B3F79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734C-429E-4804-AE17-9B85D32F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B88DE4-6CCC-487A-8B2C-2BCF385C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5C0A41-A0FE-4DE2-A763-7907A5A2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F0A1AB-9674-4B38-BC17-DD84D75A6B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F274E-5F9E-41E0-95B4-F2A845D78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1976-261D-4461-AE54-29A344EA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60C1-0407-4845-B3EF-43BA573D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20EE-C43C-4CB9-8512-323726FE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F88F4-1747-422B-A6E3-2A396C23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09976-AFF1-4F97-A99D-75DA1E5B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07E0-9DA2-4408-8F00-501472F3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BE36-83BB-432B-A010-E7592423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0F1C7-219F-4DB3-9600-8403D31D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6EB84-7610-4F3A-8072-B45D8B94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6554D-C0CD-4F0E-973D-0C43FFCA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B1D1-10C0-4E8F-8CCD-50E25B75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3C034-D978-43DD-B118-2BCBC35391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EDA98-F766-4383-ABD4-A1A53C914D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4909D-DEE5-4D47-AF45-2C423E9E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F5331-7B44-4739-8371-3FB39161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11483-C33F-4488-ABA4-974C5097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07E79-DC7D-4279-B3CA-6221E44B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97AC-1E07-46CB-9BB9-9A3A76CF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CEF48-B4BE-4F94-9122-3ED0B8F0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B808A-1B93-4AB7-A4B1-0F17CBCB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44C55-F66B-4760-86C0-1B8FFE63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37B0F-F654-46A0-8104-5E4CEF10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5536F-F398-4ADF-B855-E485B1A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235FA-625C-43BB-BB40-52331B4A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261CF-0CF9-40EC-9057-A50380D1E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30676F-FF1B-46D6-9A0B-CA98A1A23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887C2F-5802-4F51-8F36-7C2C817C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1FE79C-D79F-4BB2-8FA1-39F8E6BD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FD9E-DCD9-4B68-BC4C-704CD70741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A726-10E4-47D6-B986-8D1414D3FE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DC8B-1876-458F-B4EE-B3ACB9D8A22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F0D1-34A1-4F84-905A-395641BF3EF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32B7-8393-404E-BBF6-81D4400DF54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2D04-3F15-4698-9A1F-C16487EDB2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631F-7A93-44EE-8FE0-3A095FDA8B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A671-AE7D-4F7E-A5CD-6CE8278D6CA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9A04-F740-4FB1-B898-F524E80B05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FB34-A332-498D-9D1F-6A617B5CE9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7DA7-AB81-418D-9866-242F2324AE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252A-BE9B-413B-8999-E828A2799B9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FAAD-17D9-46C3-9F89-7FCCB239FE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9E5E-4C6A-4049-8F15-AB81CA4473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F11-2A4D-42C2-8BC7-6D2618B4D5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93FA-DD81-49DE-BC53-C55A17DA93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8A49-3F4E-4FB9-A7F2-DC7C69DB11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843F-5287-408B-9B74-996F0507B2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A215-4F34-4A96-91DA-2EE2A795CA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7DF4-0FDA-4E49-A104-DDB6EAA28B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86F4-FBCA-495C-8420-F1313FEDBC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5A32-B115-4613-9859-82E16B8688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2A9F-0B08-4372-8B0D-592B39EAF2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E7E-9846-4C24-91EC-994524A681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20880" y="272736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认 识 直 角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384200" y="1744560"/>
            <a:ext cx="91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57240"/>
            <a:ext cx="5180040" cy="525240"/>
            <a:chOff x="0" y="57240"/>
            <a:chExt cx="5180040" cy="525240"/>
          </a:xfrm>
        </p:grpSpPr>
        <p:pic>
          <p:nvPicPr>
            <p:cNvPr id="999" name="圆角矩形 7" descr=""/>
            <p:cNvPicPr/>
            <p:nvPr/>
          </p:nvPicPr>
          <p:blipFill>
            <a:blip r:embed="rId1"/>
            <a:stretch/>
          </p:blipFill>
          <p:spPr>
            <a:xfrm>
              <a:off x="257400" y="57240"/>
              <a:ext cx="492264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51920"/>
              <a:ext cx="692640" cy="273600"/>
              <a:chOff x="0" y="151920"/>
              <a:chExt cx="692640" cy="273600"/>
            </a:xfrm>
          </p:grpSpPr>
          <p:sp>
            <p:nvSpPr>
              <p:cNvPr id="1001" name="椭圆 9"/>
              <p:cNvSpPr/>
              <p:nvPr/>
            </p:nvSpPr>
            <p:spPr>
              <a:xfrm rot="16200000">
                <a:off x="280800" y="304560"/>
                <a:ext cx="10584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37240"/>
                <a:ext cx="240480" cy="7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80800" y="168840"/>
                <a:ext cx="10584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52160" y="161640"/>
                <a:ext cx="24048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48040"/>
                <a:ext cx="614520" cy="6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28960"/>
                <a:ext cx="614520" cy="6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70640"/>
                <a:ext cx="614520" cy="6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51920"/>
                <a:ext cx="614520" cy="66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国旗.jpg"/>
          <p:cNvPicPr/>
          <p:nvPr/>
        </p:nvPicPr>
        <p:blipFill>
          <a:blip r:embed="rId8"/>
          <a:srcRect l="16390" t="22943" r="14785" b="24616"/>
          <a:stretch/>
        </p:blipFill>
        <p:spPr>
          <a:xfrm>
            <a:off x="1000080" y="1428840"/>
            <a:ext cx="1500120" cy="11430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3" descr="D:\我的文档-桌面-收藏夹\桌面\一起.jpg"/>
          <p:cNvPicPr/>
          <p:nvPr/>
        </p:nvPicPr>
        <p:blipFill>
          <a:blip r:embed="rId9"/>
          <a:srcRect l="21812" t="0" r="18229" b="7072"/>
          <a:stretch/>
        </p:blipFill>
        <p:spPr>
          <a:xfrm>
            <a:off x="3500280" y="927000"/>
            <a:ext cx="1571760" cy="20005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D:\我的文档-桌面-收藏夹\桌面\双杠.jpg"/>
          <p:cNvPicPr/>
          <p:nvPr/>
        </p:nvPicPr>
        <p:blipFill>
          <a:blip r:embed="rId10"/>
          <a:stretch/>
        </p:blipFill>
        <p:spPr>
          <a:xfrm>
            <a:off x="6072120" y="998640"/>
            <a:ext cx="19288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012" name="组合 4"/>
          <p:cNvGrpSpPr/>
          <p:nvPr/>
        </p:nvGrpSpPr>
        <p:grpSpPr>
          <a:xfrm>
            <a:off x="1049400" y="1754280"/>
            <a:ext cx="928800" cy="716040"/>
            <a:chOff x="1049400" y="1754280"/>
            <a:chExt cx="928800" cy="716040"/>
          </a:xfrm>
        </p:grpSpPr>
        <p:sp>
          <p:nvSpPr>
            <p:cNvPr id="1013" name="直接连接符 8"/>
            <p:cNvSpPr/>
            <p:nvPr/>
          </p:nvSpPr>
          <p:spPr>
            <a:xfrm>
              <a:off x="1071000" y="1754280"/>
              <a:ext cx="0" cy="71352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直接连接符 11"/>
            <p:cNvSpPr/>
            <p:nvPr/>
          </p:nvSpPr>
          <p:spPr>
            <a:xfrm>
              <a:off x="1049400" y="2470320"/>
              <a:ext cx="928800" cy="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直接连接符 16"/>
          <p:cNvSpPr/>
          <p:nvPr/>
        </p:nvSpPr>
        <p:spPr>
          <a:xfrm>
            <a:off x="3786120" y="185580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17"/>
          <p:cNvSpPr/>
          <p:nvPr/>
        </p:nvSpPr>
        <p:spPr>
          <a:xfrm>
            <a:off x="3786120" y="1855800"/>
            <a:ext cx="7146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9"/>
          <p:cNvSpPr/>
          <p:nvPr/>
        </p:nvSpPr>
        <p:spPr>
          <a:xfrm>
            <a:off x="6715080" y="149868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20"/>
          <p:cNvSpPr/>
          <p:nvPr/>
        </p:nvSpPr>
        <p:spPr>
          <a:xfrm flipV="1">
            <a:off x="6715080" y="1284120"/>
            <a:ext cx="714600" cy="21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2"/>
          <p:cNvSpPr/>
          <p:nvPr/>
        </p:nvSpPr>
        <p:spPr>
          <a:xfrm>
            <a:off x="785880" y="3378240"/>
            <a:ext cx="33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上面这些角都是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21"/>
          <p:cNvGrpSpPr/>
          <p:nvPr/>
        </p:nvGrpSpPr>
        <p:grpSpPr>
          <a:xfrm>
            <a:off x="1428840" y="4070520"/>
            <a:ext cx="714240" cy="785520"/>
            <a:chOff x="1428840" y="4070520"/>
            <a:chExt cx="714240" cy="785520"/>
          </a:xfrm>
        </p:grpSpPr>
        <p:sp>
          <p:nvSpPr>
            <p:cNvPr id="1021" name="直接连接符 23"/>
            <p:cNvSpPr/>
            <p:nvPr/>
          </p:nvSpPr>
          <p:spPr>
            <a:xfrm>
              <a:off x="1428840" y="4070520"/>
              <a:ext cx="0" cy="78552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直接连接符 24"/>
            <p:cNvSpPr/>
            <p:nvPr/>
          </p:nvSpPr>
          <p:spPr>
            <a:xfrm>
              <a:off x="1428840" y="4856040"/>
              <a:ext cx="714240" cy="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28"/>
            <p:cNvSpPr/>
            <p:nvPr/>
          </p:nvSpPr>
          <p:spPr>
            <a:xfrm>
              <a:off x="1428840" y="4641840"/>
              <a:ext cx="214200" cy="214200"/>
            </a:xfrm>
            <a:prstGeom prst="rect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组合 7"/>
          <p:cNvGrpSpPr/>
          <p:nvPr/>
        </p:nvGrpSpPr>
        <p:grpSpPr>
          <a:xfrm>
            <a:off x="3679560" y="3927600"/>
            <a:ext cx="3321360" cy="1071360"/>
            <a:chOff x="3679560" y="3927600"/>
            <a:chExt cx="3321360" cy="1071360"/>
          </a:xfrm>
        </p:grpSpPr>
        <p:sp>
          <p:nvSpPr>
            <p:cNvPr id="1025" name="AutoShape 27"/>
            <p:cNvSpPr/>
            <p:nvPr/>
          </p:nvSpPr>
          <p:spPr>
            <a:xfrm>
              <a:off x="4714920" y="3927600"/>
              <a:ext cx="2286000" cy="1000080"/>
            </a:xfrm>
            <a:prstGeom prst="wedgeRoundRectCallout">
              <a:avLst>
                <a:gd name="adj1" fmla="val -63476"/>
                <a:gd name="adj2" fmla="val 28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每个三角尺上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都有一个直角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Picture 2" descr="E:\2017秋上·黄倩\其他\人\蜜蜂.gif蜜蜂"/>
            <p:cNvPicPr/>
            <p:nvPr/>
          </p:nvPicPr>
          <p:blipFill>
            <a:blip r:embed="rId11"/>
            <a:stretch/>
          </p:blipFill>
          <p:spPr>
            <a:xfrm flipH="1">
              <a:off x="3679560" y="4222800"/>
              <a:ext cx="70380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7" name="TextBox 36"/>
          <p:cNvSpPr/>
          <p:nvPr/>
        </p:nvSpPr>
        <p:spPr>
          <a:xfrm>
            <a:off x="428760" y="5451480"/>
            <a:ext cx="84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要知道一个角是不是直角，可以用三角尺上的直角比一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1"/>
          <p:cNvSpPr/>
          <p:nvPr/>
        </p:nvSpPr>
        <p:spPr>
          <a:xfrm>
            <a:off x="717480" y="71280"/>
            <a:ext cx="557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合作探究，学习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八边形 5"/>
          <p:cNvSpPr/>
          <p:nvPr/>
        </p:nvSpPr>
        <p:spPr>
          <a:xfrm>
            <a:off x="385920" y="85104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矩形 1"/>
          <p:cNvSpPr/>
          <p:nvPr/>
        </p:nvSpPr>
        <p:spPr>
          <a:xfrm>
            <a:off x="2392560" y="1571760"/>
            <a:ext cx="49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你会用纸折一个直角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任意多边形 2"/>
          <p:cNvSpPr/>
          <p:nvPr/>
        </p:nvSpPr>
        <p:spPr>
          <a:xfrm>
            <a:off x="1214280" y="2500200"/>
            <a:ext cx="1428840" cy="1352520"/>
          </a:xfrm>
          <a:custGeom>
            <a:avLst/>
            <a:gdLst/>
            <a:ahLst/>
            <a:rect l="l" t="t" r="r" b="b"/>
            <a:pathLst>
              <a:path w="1354111" h="1646420">
                <a:moveTo>
                  <a:pt x="576978" y="134912"/>
                </a:moveTo>
                <a:cubicBezTo>
                  <a:pt x="796833" y="0"/>
                  <a:pt x="924011" y="89942"/>
                  <a:pt x="1021054" y="134912"/>
                </a:cubicBezTo>
                <a:cubicBezTo>
                  <a:pt x="1118097" y="179882"/>
                  <a:pt x="1106228" y="289810"/>
                  <a:pt x="1159239" y="404734"/>
                </a:cubicBezTo>
                <a:cubicBezTo>
                  <a:pt x="1212250" y="519658"/>
                  <a:pt x="1354111" y="677056"/>
                  <a:pt x="1339121" y="824459"/>
                </a:cubicBezTo>
                <a:cubicBezTo>
                  <a:pt x="1324131" y="971862"/>
                  <a:pt x="1174229" y="1159239"/>
                  <a:pt x="1069298" y="1289154"/>
                </a:cubicBezTo>
                <a:cubicBezTo>
                  <a:pt x="964367" y="1419069"/>
                  <a:pt x="834452" y="1561476"/>
                  <a:pt x="709534" y="1603948"/>
                </a:cubicBezTo>
                <a:cubicBezTo>
                  <a:pt x="584616" y="1646420"/>
                  <a:pt x="427220" y="1626433"/>
                  <a:pt x="319790" y="1543987"/>
                </a:cubicBezTo>
                <a:cubicBezTo>
                  <a:pt x="212360" y="1461541"/>
                  <a:pt x="112426" y="1264170"/>
                  <a:pt x="64957" y="1109272"/>
                </a:cubicBezTo>
                <a:cubicBezTo>
                  <a:pt x="17488" y="954374"/>
                  <a:pt x="0" y="754505"/>
                  <a:pt x="34977" y="614597"/>
                </a:cubicBezTo>
                <a:cubicBezTo>
                  <a:pt x="69954" y="474689"/>
                  <a:pt x="182381" y="349770"/>
                  <a:pt x="274820" y="269823"/>
                </a:cubicBezTo>
                <a:cubicBezTo>
                  <a:pt x="367259" y="189876"/>
                  <a:pt x="589613" y="134912"/>
                  <a:pt x="589613" y="134912"/>
                </a:cubicBezTo>
                <a:lnTo>
                  <a:pt x="589613" y="134912"/>
                </a:ln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右箭头 3"/>
          <p:cNvSpPr/>
          <p:nvPr/>
        </p:nvSpPr>
        <p:spPr>
          <a:xfrm>
            <a:off x="2786040" y="3000240"/>
            <a:ext cx="100008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饼形 5"/>
          <p:cNvSpPr/>
          <p:nvPr/>
        </p:nvSpPr>
        <p:spPr>
          <a:xfrm flipV="1">
            <a:off x="3929040" y="2643120"/>
            <a:ext cx="1714680" cy="1928880"/>
          </a:xfrm>
          <a:custGeom>
            <a:avLst/>
            <a:gdLst/>
            <a:ahLst/>
            <a:rect l="l" t="t" r="r" b="b"/>
            <a:pathLst>
              <a:path w="1714500" h="1928812">
                <a:moveTo>
                  <a:pt x="1714500" y="964406"/>
                </a:moveTo>
                <a:cubicBezTo>
                  <a:pt x="1714500" y="1497033"/>
                  <a:pt x="1330696" y="1928812"/>
                  <a:pt x="857250" y="1928812"/>
                </a:cubicBezTo>
                <a:cubicBezTo>
                  <a:pt x="383804" y="1928812"/>
                  <a:pt x="0" y="1497033"/>
                  <a:pt x="0" y="964406"/>
                </a:cubicBezTo>
                <a:cubicBezTo>
                  <a:pt x="0" y="959045"/>
                  <a:pt x="39" y="953694"/>
                  <a:pt x="115" y="948433"/>
                </a:cubicBezTo>
                <a:lnTo>
                  <a:pt x="857250" y="9644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任意多边形 6"/>
          <p:cNvSpPr/>
          <p:nvPr/>
        </p:nvSpPr>
        <p:spPr>
          <a:xfrm>
            <a:off x="3786120" y="2643120"/>
            <a:ext cx="2000160" cy="1052640"/>
          </a:xfrm>
          <a:custGeom>
            <a:avLst/>
            <a:gdLst/>
            <a:ahLst/>
            <a:rect l="l" t="t" r="r" b="b"/>
            <a:pathLst>
              <a:path w="2148588" h="1110613">
                <a:moveTo>
                  <a:pt x="192372" y="1016897"/>
                </a:moveTo>
                <a:cubicBezTo>
                  <a:pt x="0" y="923181"/>
                  <a:pt x="582128" y="592012"/>
                  <a:pt x="717039" y="424622"/>
                </a:cubicBezTo>
                <a:cubicBezTo>
                  <a:pt x="851951" y="257232"/>
                  <a:pt x="876267" y="0"/>
                  <a:pt x="1001841" y="12556"/>
                </a:cubicBezTo>
                <a:cubicBezTo>
                  <a:pt x="1127416" y="25113"/>
                  <a:pt x="1328080" y="372545"/>
                  <a:pt x="1470486" y="499961"/>
                </a:cubicBezTo>
                <a:cubicBezTo>
                  <a:pt x="1612892" y="627377"/>
                  <a:pt x="1789483" y="695896"/>
                  <a:pt x="1856280" y="777055"/>
                </a:cubicBezTo>
                <a:cubicBezTo>
                  <a:pt x="1923077" y="858214"/>
                  <a:pt x="2148588" y="949442"/>
                  <a:pt x="1871270" y="986917"/>
                </a:cubicBezTo>
                <a:cubicBezTo>
                  <a:pt x="1593952" y="1024392"/>
                  <a:pt x="384744" y="1110613"/>
                  <a:pt x="192372" y="1016897"/>
                </a:cubicBezTo>
                <a:close/>
              </a:path>
            </a:pathLst>
          </a:custGeom>
          <a:solidFill>
            <a:srgbClr val="999999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0"/>
          <p:cNvSpPr/>
          <p:nvPr/>
        </p:nvSpPr>
        <p:spPr>
          <a:xfrm flipH="1" flipV="1">
            <a:off x="4714920" y="2643120"/>
            <a:ext cx="71280" cy="1000080"/>
          </a:xfrm>
          <a:prstGeom prst="line">
            <a:avLst/>
          </a:prstGeom>
          <a:ln w="255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饼形 13"/>
          <p:cNvSpPr/>
          <p:nvPr/>
        </p:nvSpPr>
        <p:spPr>
          <a:xfrm flipV="1">
            <a:off x="6929280" y="2643120"/>
            <a:ext cx="1714680" cy="1928880"/>
          </a:xfrm>
          <a:custGeom>
            <a:avLst/>
            <a:gdLst/>
            <a:ahLst/>
            <a:rect l="l" t="t" r="r" b="b"/>
            <a:pathLst>
              <a:path w="1714500" h="1928812">
                <a:moveTo>
                  <a:pt x="823011" y="1928042"/>
                </a:moveTo>
                <a:cubicBezTo>
                  <a:pt x="365351" y="1907738"/>
                  <a:pt x="0" y="1484071"/>
                  <a:pt x="0" y="964406"/>
                </a:cubicBezTo>
                <a:cubicBezTo>
                  <a:pt x="0" y="959045"/>
                  <a:pt x="39" y="953694"/>
                  <a:pt x="115" y="948433"/>
                </a:cubicBezTo>
                <a:lnTo>
                  <a:pt x="857250" y="9644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右箭头 14"/>
          <p:cNvSpPr/>
          <p:nvPr/>
        </p:nvSpPr>
        <p:spPr>
          <a:xfrm>
            <a:off x="5786280" y="3000240"/>
            <a:ext cx="100044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任意多边形 18"/>
          <p:cNvSpPr/>
          <p:nvPr/>
        </p:nvSpPr>
        <p:spPr>
          <a:xfrm>
            <a:off x="6875640" y="2571840"/>
            <a:ext cx="996840" cy="1093680"/>
          </a:xfrm>
          <a:custGeom>
            <a:avLst/>
            <a:gdLst/>
            <a:ahLst/>
            <a:rect l="l" t="t" r="r" b="b"/>
            <a:pathLst>
              <a:path w="1021297" h="1176728">
                <a:moveTo>
                  <a:pt x="846944" y="102433"/>
                </a:moveTo>
                <a:cubicBezTo>
                  <a:pt x="781986" y="0"/>
                  <a:pt x="549639" y="342275"/>
                  <a:pt x="487180" y="447206"/>
                </a:cubicBezTo>
                <a:cubicBezTo>
                  <a:pt x="424721" y="552137"/>
                  <a:pt x="542144" y="619593"/>
                  <a:pt x="472190" y="732019"/>
                </a:cubicBezTo>
                <a:cubicBezTo>
                  <a:pt x="402236" y="844445"/>
                  <a:pt x="0" y="1066800"/>
                  <a:pt x="67456" y="1121764"/>
                </a:cubicBezTo>
                <a:cubicBezTo>
                  <a:pt x="134912" y="1176728"/>
                  <a:pt x="732553" y="1146331"/>
                  <a:pt x="876925" y="1061803"/>
                </a:cubicBezTo>
                <a:cubicBezTo>
                  <a:pt x="1021297" y="977275"/>
                  <a:pt x="938687" y="774491"/>
                  <a:pt x="933690" y="614596"/>
                </a:cubicBezTo>
                <a:cubicBezTo>
                  <a:pt x="928693" y="454701"/>
                  <a:pt x="923078" y="131046"/>
                  <a:pt x="846944" y="102433"/>
                </a:cubicBezTo>
                <a:close/>
              </a:path>
            </a:pathLst>
          </a:custGeom>
          <a:solidFill>
            <a:srgbClr val="999999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矩形 1"/>
          <p:cNvSpPr/>
          <p:nvPr/>
        </p:nvSpPr>
        <p:spPr>
          <a:xfrm>
            <a:off x="1978560" y="757080"/>
            <a:ext cx="74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三角尺可以画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3"/>
          <p:cNvSpPr/>
          <p:nvPr/>
        </p:nvSpPr>
        <p:spPr>
          <a:xfrm>
            <a:off x="973080" y="196704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35"/>
          <p:cNvGrpSpPr/>
          <p:nvPr/>
        </p:nvGrpSpPr>
        <p:grpSpPr>
          <a:xfrm>
            <a:off x="6340320" y="1283760"/>
            <a:ext cx="1284480" cy="1072080"/>
            <a:chOff x="6340320" y="1283760"/>
            <a:chExt cx="1284480" cy="1072080"/>
          </a:xfrm>
        </p:grpSpPr>
        <p:sp>
          <p:nvSpPr>
            <p:cNvPr id="1042" name="矩形 18"/>
            <p:cNvSpPr/>
            <p:nvPr/>
          </p:nvSpPr>
          <p:spPr>
            <a:xfrm>
              <a:off x="6340320" y="2141280"/>
              <a:ext cx="142560" cy="21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8"/>
            <p:cNvSpPr/>
            <p:nvPr/>
          </p:nvSpPr>
          <p:spPr>
            <a:xfrm>
              <a:off x="6340320" y="2355840"/>
              <a:ext cx="128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9"/>
            <p:cNvSpPr/>
            <p:nvPr/>
          </p:nvSpPr>
          <p:spPr>
            <a:xfrm flipV="1">
              <a:off x="6340320" y="1283760"/>
              <a:ext cx="0" cy="107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1"/>
            <p:cNvSpPr/>
            <p:nvPr/>
          </p:nvSpPr>
          <p:spPr>
            <a:xfrm>
              <a:off x="6340320" y="2284200"/>
              <a:ext cx="7164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右箭头 12"/>
          <p:cNvSpPr/>
          <p:nvPr/>
        </p:nvSpPr>
        <p:spPr>
          <a:xfrm>
            <a:off x="2644920" y="1787400"/>
            <a:ext cx="785520" cy="35748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右箭头 13"/>
          <p:cNvSpPr/>
          <p:nvPr/>
        </p:nvSpPr>
        <p:spPr>
          <a:xfrm>
            <a:off x="5160960" y="1787400"/>
            <a:ext cx="785880" cy="357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组合 32"/>
          <p:cNvGrpSpPr/>
          <p:nvPr/>
        </p:nvGrpSpPr>
        <p:grpSpPr>
          <a:xfrm>
            <a:off x="3714840" y="1285560"/>
            <a:ext cx="1285920" cy="1070280"/>
            <a:chOff x="3714840" y="1285560"/>
            <a:chExt cx="1285920" cy="1070280"/>
          </a:xfrm>
        </p:grpSpPr>
        <p:sp>
          <p:nvSpPr>
            <p:cNvPr id="1049" name="直角三角形 14"/>
            <p:cNvSpPr/>
            <p:nvPr/>
          </p:nvSpPr>
          <p:spPr>
            <a:xfrm>
              <a:off x="3715920" y="1287000"/>
              <a:ext cx="713520" cy="1068840"/>
            </a:xfrm>
            <a:prstGeom prst="rtTriangle">
              <a:avLst/>
            </a:pr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直接连接符 5"/>
            <p:cNvSpPr/>
            <p:nvPr/>
          </p:nvSpPr>
          <p:spPr>
            <a:xfrm>
              <a:off x="3715920" y="2355840"/>
              <a:ext cx="128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直接连接符 6"/>
            <p:cNvSpPr/>
            <p:nvPr/>
          </p:nvSpPr>
          <p:spPr>
            <a:xfrm flipV="1">
              <a:off x="3714840" y="1285560"/>
              <a:ext cx="0" cy="106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椭圆 10"/>
            <p:cNvSpPr/>
            <p:nvPr/>
          </p:nvSpPr>
          <p:spPr>
            <a:xfrm>
              <a:off x="3715920" y="2284920"/>
              <a:ext cx="71640" cy="70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椭圆 16"/>
            <p:cNvSpPr/>
            <p:nvPr/>
          </p:nvSpPr>
          <p:spPr>
            <a:xfrm>
              <a:off x="3787560" y="1928160"/>
              <a:ext cx="285480" cy="285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矩形 21"/>
          <p:cNvSpPr/>
          <p:nvPr/>
        </p:nvSpPr>
        <p:spPr>
          <a:xfrm>
            <a:off x="500040" y="3009960"/>
            <a:ext cx="77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三角尺比一比教科书封面上的角是不是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22"/>
          <p:cNvSpPr/>
          <p:nvPr/>
        </p:nvSpPr>
        <p:spPr>
          <a:xfrm>
            <a:off x="500040" y="4191120"/>
            <a:ext cx="77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数一数下面的图形中各有几个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23"/>
          <p:cNvSpPr/>
          <p:nvPr/>
        </p:nvSpPr>
        <p:spPr>
          <a:xfrm>
            <a:off x="2960640" y="36399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25"/>
          <p:cNvSpPr/>
          <p:nvPr/>
        </p:nvSpPr>
        <p:spPr>
          <a:xfrm>
            <a:off x="1214280" y="4873680"/>
            <a:ext cx="1143000" cy="857160"/>
          </a:xfrm>
          <a:prstGeom prst="rect">
            <a:avLst/>
          </a:pr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26"/>
          <p:cNvSpPr/>
          <p:nvPr/>
        </p:nvSpPr>
        <p:spPr>
          <a:xfrm>
            <a:off x="3071880" y="4873680"/>
            <a:ext cx="785880" cy="857160"/>
          </a:xfrm>
          <a:prstGeom prst="rect">
            <a:avLst/>
          </a:pr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角三角形 28"/>
          <p:cNvSpPr/>
          <p:nvPr/>
        </p:nvSpPr>
        <p:spPr>
          <a:xfrm>
            <a:off x="4430880" y="4873680"/>
            <a:ext cx="1071360" cy="857160"/>
          </a:xfrm>
          <a:prstGeom prst="rtTriangle">
            <a:avLst/>
          </a:pr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29"/>
          <p:cNvSpPr/>
          <p:nvPr/>
        </p:nvSpPr>
        <p:spPr>
          <a:xfrm>
            <a:off x="1463760" y="57942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30"/>
          <p:cNvSpPr/>
          <p:nvPr/>
        </p:nvSpPr>
        <p:spPr>
          <a:xfrm>
            <a:off x="3214800" y="57942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31"/>
          <p:cNvSpPr/>
          <p:nvPr/>
        </p:nvSpPr>
        <p:spPr>
          <a:xfrm>
            <a:off x="4645080" y="57942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八边形 37"/>
          <p:cNvSpPr/>
          <p:nvPr/>
        </p:nvSpPr>
        <p:spPr>
          <a:xfrm>
            <a:off x="314280" y="70812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57200" y="92988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找出直角，在下面的括号里画上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组合 2"/>
          <p:cNvGrpSpPr/>
          <p:nvPr/>
        </p:nvGrpSpPr>
        <p:grpSpPr>
          <a:xfrm>
            <a:off x="-9360" y="79200"/>
            <a:ext cx="3054240" cy="527400"/>
            <a:chOff x="-9360" y="79200"/>
            <a:chExt cx="3054240" cy="527400"/>
          </a:xfrm>
        </p:grpSpPr>
        <p:pic>
          <p:nvPicPr>
            <p:cNvPr id="1066" name="圆角矩形 8" descr=""/>
            <p:cNvPicPr/>
            <p:nvPr/>
          </p:nvPicPr>
          <p:blipFill>
            <a:blip r:embed="rId1"/>
            <a:stretch/>
          </p:blipFill>
          <p:spPr>
            <a:xfrm>
              <a:off x="130680" y="79200"/>
              <a:ext cx="291420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7" name="组合 4"/>
            <p:cNvGrpSpPr/>
            <p:nvPr/>
          </p:nvGrpSpPr>
          <p:grpSpPr>
            <a:xfrm>
              <a:off x="-9360" y="174240"/>
              <a:ext cx="404280" cy="274680"/>
              <a:chOff x="-9360" y="174240"/>
              <a:chExt cx="404280" cy="274680"/>
            </a:xfrm>
          </p:grpSpPr>
          <p:sp>
            <p:nvSpPr>
              <p:cNvPr id="1068" name="椭圆 16"/>
              <p:cNvSpPr/>
              <p:nvPr/>
            </p:nvSpPr>
            <p:spPr>
              <a:xfrm rot="16200000">
                <a:off x="228600" y="340920"/>
                <a:ext cx="98280" cy="117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9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200" y="308880"/>
                <a:ext cx="207720" cy="11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0" name="椭圆 19"/>
              <p:cNvSpPr/>
              <p:nvPr/>
            </p:nvSpPr>
            <p:spPr>
              <a:xfrm rot="16200000">
                <a:off x="228600" y="214920"/>
                <a:ext cx="98280" cy="117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1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7200" y="189720"/>
                <a:ext cx="207720" cy="11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2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9360" y="326160"/>
                <a:ext cx="33192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9360" y="296280"/>
                <a:ext cx="33192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4" name="圆角矩形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-9360" y="204120"/>
                <a:ext cx="33192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-9360" y="174240"/>
                <a:ext cx="331920" cy="10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76" name="Group 16149"/>
          <p:cNvGrpSpPr/>
          <p:nvPr/>
        </p:nvGrpSpPr>
        <p:grpSpPr>
          <a:xfrm>
            <a:off x="1684440" y="1832040"/>
            <a:ext cx="5286240" cy="3098880"/>
            <a:chOff x="1684440" y="1832040"/>
            <a:chExt cx="5286240" cy="3098880"/>
          </a:xfrm>
        </p:grpSpPr>
        <p:sp>
          <p:nvSpPr>
            <p:cNvPr id="1077" name="Picture 16150"/>
            <p:cNvSpPr/>
            <p:nvPr/>
          </p:nvSpPr>
          <p:spPr>
            <a:xfrm>
              <a:off x="1684440" y="1832040"/>
              <a:ext cx="5286240" cy="30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5137560" y="2107440"/>
              <a:ext cx="764280" cy="551520"/>
            </a:xfrm>
            <a:custGeom>
              <a:avLst/>
              <a:gdLst/>
              <a:ahLst/>
              <a:rect l="l" t="t" r="r" b="b"/>
              <a:pathLst>
                <a:path w="896" h="655">
                  <a:moveTo>
                    <a:pt x="896" y="655"/>
                  </a:moveTo>
                  <a:lnTo>
                    <a:pt x="896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未知"/>
            <p:cNvSpPr/>
            <p:nvPr/>
          </p:nvSpPr>
          <p:spPr>
            <a:xfrm>
              <a:off x="3387960" y="2040120"/>
              <a:ext cx="1058760" cy="684000"/>
            </a:xfrm>
            <a:custGeom>
              <a:avLst/>
              <a:gdLst/>
              <a:ahLst/>
              <a:rect l="l" t="t" r="r" b="b"/>
              <a:pathLst>
                <a:path w="1241" h="812">
                  <a:moveTo>
                    <a:pt x="1241" y="684"/>
                  </a:moveTo>
                  <a:lnTo>
                    <a:pt x="748" y="0"/>
                  </a:lnTo>
                  <a:lnTo>
                    <a:pt x="0" y="81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6153"/>
            <p:cNvSpPr/>
            <p:nvPr/>
          </p:nvSpPr>
          <p:spPr>
            <a:xfrm flipH="1">
              <a:off x="1719000" y="2696760"/>
              <a:ext cx="950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6154"/>
            <p:cNvSpPr/>
            <p:nvPr/>
          </p:nvSpPr>
          <p:spPr>
            <a:xfrm flipH="1" flipV="1">
              <a:off x="2098440" y="1865520"/>
              <a:ext cx="570600" cy="8305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未知"/>
            <p:cNvSpPr/>
            <p:nvPr/>
          </p:nvSpPr>
          <p:spPr>
            <a:xfrm>
              <a:off x="1785960" y="3900960"/>
              <a:ext cx="1073160" cy="375120"/>
            </a:xfrm>
            <a:custGeom>
              <a:avLst/>
              <a:gdLst/>
              <a:ahLst/>
              <a:rect l="l" t="t" r="r" b="b"/>
              <a:pathLst>
                <a:path w="1258" h="445">
                  <a:moveTo>
                    <a:pt x="1258" y="63"/>
                  </a:moveTo>
                  <a:lnTo>
                    <a:pt x="589" y="445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未知"/>
            <p:cNvSpPr/>
            <p:nvPr/>
          </p:nvSpPr>
          <p:spPr>
            <a:xfrm>
              <a:off x="3411000" y="3684240"/>
              <a:ext cx="850680" cy="660240"/>
            </a:xfrm>
            <a:custGeom>
              <a:avLst/>
              <a:gdLst/>
              <a:ahLst/>
              <a:rect l="l" t="t" r="r" b="b"/>
              <a:pathLst>
                <a:path w="997" h="784">
                  <a:moveTo>
                    <a:pt x="0" y="784"/>
                  </a:moveTo>
                  <a:lnTo>
                    <a:pt x="997" y="784"/>
                  </a:lnTo>
                  <a:lnTo>
                    <a:pt x="997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未知"/>
            <p:cNvSpPr/>
            <p:nvPr/>
          </p:nvSpPr>
          <p:spPr>
            <a:xfrm>
              <a:off x="5031000" y="3691440"/>
              <a:ext cx="969480" cy="652680"/>
            </a:xfrm>
            <a:custGeom>
              <a:avLst/>
              <a:gdLst/>
              <a:ahLst/>
              <a:rect l="l" t="t" r="r" b="b"/>
              <a:pathLst>
                <a:path w="1136" h="775">
                  <a:moveTo>
                    <a:pt x="1136" y="361"/>
                  </a:moveTo>
                  <a:lnTo>
                    <a:pt x="775" y="0"/>
                  </a:lnTo>
                  <a:lnTo>
                    <a:pt x="0" y="77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6158"/>
            <p:cNvSpPr/>
            <p:nvPr/>
          </p:nvSpPr>
          <p:spPr>
            <a:xfrm>
              <a:off x="1895400" y="2996280"/>
              <a:ext cx="74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6159"/>
            <p:cNvSpPr/>
            <p:nvPr/>
          </p:nvSpPr>
          <p:spPr>
            <a:xfrm>
              <a:off x="3756240" y="2986560"/>
              <a:ext cx="7441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(  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6160"/>
            <p:cNvSpPr/>
            <p:nvPr/>
          </p:nvSpPr>
          <p:spPr>
            <a:xfrm>
              <a:off x="5256360" y="3014280"/>
              <a:ext cx="7441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(  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Rectangle 16158"/>
          <p:cNvSpPr/>
          <p:nvPr/>
        </p:nvSpPr>
        <p:spPr>
          <a:xfrm>
            <a:off x="1925640" y="4379760"/>
            <a:ext cx="74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6158"/>
          <p:cNvSpPr/>
          <p:nvPr/>
        </p:nvSpPr>
        <p:spPr>
          <a:xfrm>
            <a:off x="3703680" y="4454640"/>
            <a:ext cx="74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6158"/>
          <p:cNvSpPr/>
          <p:nvPr/>
        </p:nvSpPr>
        <p:spPr>
          <a:xfrm>
            <a:off x="5256360" y="4454640"/>
            <a:ext cx="74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7"/>
          <p:cNvSpPr/>
          <p:nvPr/>
        </p:nvSpPr>
        <p:spPr>
          <a:xfrm>
            <a:off x="5322960" y="287964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10"/>
          <p:cNvSpPr/>
          <p:nvPr/>
        </p:nvSpPr>
        <p:spPr>
          <a:xfrm>
            <a:off x="3768840" y="390204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11"/>
          <p:cNvSpPr/>
          <p:nvPr/>
        </p:nvSpPr>
        <p:spPr>
          <a:xfrm>
            <a:off x="5289480" y="390204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 txBox="1"/>
          <p:nvPr/>
        </p:nvSpPr>
        <p:spPr>
          <a:xfrm>
            <a:off x="641520" y="92988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数出下面各图形中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16523"/>
          <p:cNvGrpSpPr/>
          <p:nvPr/>
        </p:nvGrpSpPr>
        <p:grpSpPr>
          <a:xfrm>
            <a:off x="1911240" y="2008080"/>
            <a:ext cx="5329440" cy="1255680"/>
            <a:chOff x="1911240" y="2008080"/>
            <a:chExt cx="5329440" cy="1255680"/>
          </a:xfrm>
        </p:grpSpPr>
        <p:sp>
          <p:nvSpPr>
            <p:cNvPr id="1096" name="Picture 16524"/>
            <p:cNvSpPr/>
            <p:nvPr/>
          </p:nvSpPr>
          <p:spPr>
            <a:xfrm>
              <a:off x="1911240" y="2008080"/>
              <a:ext cx="532944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6525"/>
            <p:cNvSpPr/>
            <p:nvPr/>
          </p:nvSpPr>
          <p:spPr>
            <a:xfrm>
              <a:off x="3674880" y="2069280"/>
              <a:ext cx="1684080" cy="1039320"/>
            </a:xfrm>
            <a:prstGeom prst="rect">
              <a:avLst/>
            </a:prstGeom>
            <a:noFill/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未知"/>
            <p:cNvSpPr/>
            <p:nvPr/>
          </p:nvSpPr>
          <p:spPr>
            <a:xfrm>
              <a:off x="1944720" y="2235240"/>
              <a:ext cx="1429560" cy="911880"/>
            </a:xfrm>
            <a:custGeom>
              <a:avLst/>
              <a:gdLst/>
              <a:ahLst/>
              <a:rect l="l" t="t" r="r" b="b"/>
              <a:pathLst>
                <a:path w="1702" h="948">
                  <a:moveTo>
                    <a:pt x="0" y="948"/>
                  </a:moveTo>
                  <a:lnTo>
                    <a:pt x="1702" y="948"/>
                  </a:lnTo>
                  <a:lnTo>
                    <a:pt x="0" y="0"/>
                  </a:lnTo>
                  <a:lnTo>
                    <a:pt x="0" y="94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未知"/>
            <p:cNvSpPr/>
            <p:nvPr/>
          </p:nvSpPr>
          <p:spPr>
            <a:xfrm>
              <a:off x="5847120" y="2046240"/>
              <a:ext cx="1355400" cy="1176480"/>
            </a:xfrm>
            <a:custGeom>
              <a:avLst/>
              <a:gdLst/>
              <a:ahLst/>
              <a:rect l="l" t="t" r="r" b="b"/>
              <a:pathLst>
                <a:path w="1614" h="1223">
                  <a:moveTo>
                    <a:pt x="0" y="1223"/>
                  </a:moveTo>
                  <a:lnTo>
                    <a:pt x="1614" y="1223"/>
                  </a:lnTo>
                  <a:lnTo>
                    <a:pt x="912" y="0"/>
                  </a:lnTo>
                  <a:lnTo>
                    <a:pt x="0" y="0"/>
                  </a:lnTo>
                  <a:lnTo>
                    <a:pt x="0" y="122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文本框 99"/>
          <p:cNvSpPr/>
          <p:nvPr/>
        </p:nvSpPr>
        <p:spPr>
          <a:xfrm>
            <a:off x="1644480" y="3263760"/>
            <a:ext cx="60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　 ）个直角　（　 ）个直角　　（　 ）个直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16529"/>
          <p:cNvGrpSpPr/>
          <p:nvPr/>
        </p:nvGrpSpPr>
        <p:grpSpPr>
          <a:xfrm>
            <a:off x="2660760" y="3892680"/>
            <a:ext cx="4787640" cy="1104840"/>
            <a:chOff x="2660760" y="3892680"/>
            <a:chExt cx="4787640" cy="1104840"/>
          </a:xfrm>
        </p:grpSpPr>
        <p:sp>
          <p:nvSpPr>
            <p:cNvPr id="1102" name="Picture 16530"/>
            <p:cNvSpPr/>
            <p:nvPr/>
          </p:nvSpPr>
          <p:spPr>
            <a:xfrm>
              <a:off x="2660760" y="3892680"/>
              <a:ext cx="478764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16531"/>
            <p:cNvSpPr/>
            <p:nvPr/>
          </p:nvSpPr>
          <p:spPr>
            <a:xfrm flipV="1">
              <a:off x="6618600" y="3922560"/>
              <a:ext cx="0" cy="10472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未知"/>
            <p:cNvSpPr/>
            <p:nvPr/>
          </p:nvSpPr>
          <p:spPr>
            <a:xfrm>
              <a:off x="6618600" y="3922920"/>
              <a:ext cx="803880" cy="1047240"/>
            </a:xfrm>
            <a:custGeom>
              <a:avLst/>
              <a:gdLst/>
              <a:ahLst/>
              <a:rect l="l" t="t" r="r" b="b"/>
              <a:pathLst>
                <a:path w="1101" h="1380">
                  <a:moveTo>
                    <a:pt x="0" y="1380"/>
                  </a:moveTo>
                  <a:lnTo>
                    <a:pt x="1101" y="138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未知"/>
            <p:cNvSpPr/>
            <p:nvPr/>
          </p:nvSpPr>
          <p:spPr>
            <a:xfrm>
              <a:off x="5196600" y="3995640"/>
              <a:ext cx="233640" cy="876960"/>
            </a:xfrm>
            <a:custGeom>
              <a:avLst/>
              <a:gdLst/>
              <a:ahLst/>
              <a:rect l="l" t="t" r="r" b="b"/>
              <a:pathLst>
                <a:path w="320" h="1155">
                  <a:moveTo>
                    <a:pt x="6" y="217"/>
                  </a:moveTo>
                  <a:lnTo>
                    <a:pt x="320" y="0"/>
                  </a:lnTo>
                  <a:lnTo>
                    <a:pt x="320" y="1155"/>
                  </a:lnTo>
                  <a:lnTo>
                    <a:pt x="0" y="115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16534"/>
            <p:cNvSpPr/>
            <p:nvPr/>
          </p:nvSpPr>
          <p:spPr>
            <a:xfrm flipV="1">
              <a:off x="5196600" y="4160880"/>
              <a:ext cx="3960" cy="711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未知"/>
            <p:cNvSpPr/>
            <p:nvPr/>
          </p:nvSpPr>
          <p:spPr>
            <a:xfrm>
              <a:off x="4205160" y="4160880"/>
              <a:ext cx="995400" cy="711360"/>
            </a:xfrm>
            <a:custGeom>
              <a:avLst/>
              <a:gdLst/>
              <a:ahLst/>
              <a:rect l="l" t="t" r="r" b="b"/>
              <a:pathLst>
                <a:path w="1363" h="938">
                  <a:moveTo>
                    <a:pt x="1363" y="0"/>
                  </a:moveTo>
                  <a:lnTo>
                    <a:pt x="0" y="938"/>
                  </a:lnTo>
                  <a:lnTo>
                    <a:pt x="1357" y="93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未知"/>
            <p:cNvSpPr/>
            <p:nvPr/>
          </p:nvSpPr>
          <p:spPr>
            <a:xfrm>
              <a:off x="6059880" y="3922920"/>
              <a:ext cx="558360" cy="1047240"/>
            </a:xfrm>
            <a:custGeom>
              <a:avLst/>
              <a:gdLst/>
              <a:ahLst/>
              <a:rect l="l" t="t" r="r" b="b"/>
              <a:pathLst>
                <a:path w="765" h="1380">
                  <a:moveTo>
                    <a:pt x="765" y="0"/>
                  </a:moveTo>
                  <a:lnTo>
                    <a:pt x="0" y="0"/>
                  </a:lnTo>
                  <a:lnTo>
                    <a:pt x="0" y="1380"/>
                  </a:lnTo>
                  <a:lnTo>
                    <a:pt x="765" y="138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063880" y="4016520"/>
            <a:ext cx="1311120" cy="836640"/>
          </a:xfrm>
          <a:prstGeom prst="rect">
            <a:avLst/>
          </a:prstGeom>
          <a:ln w="0">
            <a:noFill/>
          </a:ln>
        </p:spPr>
      </p:pic>
      <p:sp>
        <p:nvSpPr>
          <p:cNvPr id="1110" name="文本框 2"/>
          <p:cNvSpPr/>
          <p:nvPr/>
        </p:nvSpPr>
        <p:spPr>
          <a:xfrm>
            <a:off x="1733400" y="5086440"/>
            <a:ext cx="18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　 ）个直角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"/>
          <p:cNvSpPr/>
          <p:nvPr/>
        </p:nvSpPr>
        <p:spPr>
          <a:xfrm>
            <a:off x="4137120" y="5148360"/>
            <a:ext cx="35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　  ）个角　　（　  ）个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　  ）个直角　（　  ）个直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6"/>
          <p:cNvSpPr/>
          <p:nvPr/>
        </p:nvSpPr>
        <p:spPr>
          <a:xfrm>
            <a:off x="2063880" y="320364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7"/>
          <p:cNvSpPr/>
          <p:nvPr/>
        </p:nvSpPr>
        <p:spPr>
          <a:xfrm>
            <a:off x="3956040" y="3170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10"/>
          <p:cNvSpPr/>
          <p:nvPr/>
        </p:nvSpPr>
        <p:spPr>
          <a:xfrm>
            <a:off x="6060960" y="320364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11"/>
          <p:cNvSpPr/>
          <p:nvPr/>
        </p:nvSpPr>
        <p:spPr>
          <a:xfrm>
            <a:off x="2063880" y="499752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12"/>
          <p:cNvSpPr/>
          <p:nvPr/>
        </p:nvSpPr>
        <p:spPr>
          <a:xfrm>
            <a:off x="4462560" y="539748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13"/>
          <p:cNvSpPr/>
          <p:nvPr/>
        </p:nvSpPr>
        <p:spPr>
          <a:xfrm>
            <a:off x="4457880" y="5025960"/>
            <a:ext cx="7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14"/>
          <p:cNvSpPr/>
          <p:nvPr/>
        </p:nvSpPr>
        <p:spPr>
          <a:xfrm>
            <a:off x="6156360" y="502596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18"/>
          <p:cNvSpPr/>
          <p:nvPr/>
        </p:nvSpPr>
        <p:spPr>
          <a:xfrm>
            <a:off x="6156360" y="539748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 txBox="1"/>
          <p:nvPr/>
        </p:nvSpPr>
        <p:spPr>
          <a:xfrm>
            <a:off x="457200" y="92988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三、我会填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课桌的面有（　　  ）个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红领巾上有（　　  ）个角，国旗上有（　　  ）个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长方形有（　　   ）个角，每个角都是（　　  ）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课桌上的直角和三角板上的直角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三角板上有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个角，其中特殊的一个角是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在下面的图形里加一条线段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把它分成一个正方形和一个三角形．加线后的图形中有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个直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图片 4" descr=""/>
          <p:cNvPicPr/>
          <p:nvPr/>
        </p:nvPicPr>
        <p:blipFill>
          <a:blip r:embed="rId1"/>
          <a:stretch/>
        </p:blipFill>
        <p:spPr>
          <a:xfrm>
            <a:off x="3095640" y="5106960"/>
            <a:ext cx="1855800" cy="924120"/>
          </a:xfrm>
          <a:prstGeom prst="rect">
            <a:avLst/>
          </a:prstGeom>
          <a:ln w="0">
            <a:noFill/>
          </a:ln>
        </p:spPr>
      </p:pic>
      <p:sp>
        <p:nvSpPr>
          <p:cNvPr id="1122" name="文本框 13"/>
          <p:cNvSpPr/>
          <p:nvPr/>
        </p:nvSpPr>
        <p:spPr>
          <a:xfrm>
            <a:off x="3095640" y="142704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2"/>
          <p:cNvSpPr/>
          <p:nvPr/>
        </p:nvSpPr>
        <p:spPr>
          <a:xfrm>
            <a:off x="3044880" y="188748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3"/>
          <p:cNvSpPr/>
          <p:nvPr/>
        </p:nvSpPr>
        <p:spPr>
          <a:xfrm>
            <a:off x="6842160" y="18716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5"/>
          <p:cNvSpPr/>
          <p:nvPr/>
        </p:nvSpPr>
        <p:spPr>
          <a:xfrm>
            <a:off x="2774880" y="234000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6"/>
          <p:cNvSpPr/>
          <p:nvPr/>
        </p:nvSpPr>
        <p:spPr>
          <a:xfrm>
            <a:off x="6918480" y="234000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7"/>
          <p:cNvSpPr/>
          <p:nvPr/>
        </p:nvSpPr>
        <p:spPr>
          <a:xfrm>
            <a:off x="5599080" y="280044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10"/>
          <p:cNvSpPr/>
          <p:nvPr/>
        </p:nvSpPr>
        <p:spPr>
          <a:xfrm>
            <a:off x="2862360" y="327024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11"/>
          <p:cNvSpPr/>
          <p:nvPr/>
        </p:nvSpPr>
        <p:spPr>
          <a:xfrm>
            <a:off x="7736040" y="322272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12"/>
          <p:cNvSpPr/>
          <p:nvPr/>
        </p:nvSpPr>
        <p:spPr>
          <a:xfrm>
            <a:off x="5178600" y="448632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直接连接符 14"/>
          <p:cNvSpPr/>
          <p:nvPr/>
        </p:nvSpPr>
        <p:spPr>
          <a:xfrm flipV="1">
            <a:off x="3995640" y="522108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3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32"/>
          <p:cNvSpPr/>
          <p:nvPr/>
        </p:nvSpPr>
        <p:spPr>
          <a:xfrm>
            <a:off x="420840" y="933480"/>
            <a:ext cx="844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现实生活中，很多地方都有直角，椅子的靠背和桌面、长方形和正方形的四个角都是直角。对于直角，一般都要标出直角符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    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画直角的方法：先画出一个点，从这个点出发画一条直线；然后用三角尺上直线的顶点对齐这个点，一条直角边与这条线对齐，从这个点出发沿三角尺上另一条直角边画一条线；最后画出直角符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组合 3"/>
          <p:cNvGrpSpPr/>
          <p:nvPr/>
        </p:nvGrpSpPr>
        <p:grpSpPr>
          <a:xfrm>
            <a:off x="4964040" y="1939680"/>
            <a:ext cx="236520" cy="237960"/>
            <a:chOff x="4964040" y="1939680"/>
            <a:chExt cx="236520" cy="237960"/>
          </a:xfrm>
        </p:grpSpPr>
        <p:sp>
          <p:nvSpPr>
            <p:cNvPr id="1146" name="直接连接符 1"/>
            <p:cNvSpPr/>
            <p:nvPr/>
          </p:nvSpPr>
          <p:spPr>
            <a:xfrm>
              <a:off x="4964040" y="1941120"/>
              <a:ext cx="236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直接连接符 2"/>
            <p:cNvSpPr/>
            <p:nvPr/>
          </p:nvSpPr>
          <p:spPr>
            <a:xfrm flipV="1">
              <a:off x="5189400" y="1939680"/>
              <a:ext cx="0" cy="237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22:00Z</dcterms:created>
  <dc:creator/>
  <dc:description/>
  <dc:language>en-US</dc:language>
  <cp:lastModifiedBy>万润仪器贸易公司</cp:lastModifiedBy>
  <dcterms:modified xsi:type="dcterms:W3CDTF">2020-08-21T00:42:55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